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EF6C-C7E4-4B36-9149-CC5E58168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3BC7-01A6-448B-A660-F9595645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CB54B2-35B5-4C51-B8B7-B1C88F3E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3B2CD-DBFB-4380-AC0A-84437C2C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B9D45-EE6C-437D-80D2-9EF3311B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8E9B7-1FB0-4D38-992D-984DC12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6EFE1-EDCD-4A82-A517-D0A123B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1514F-5DBF-4A4C-A538-E508F55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7470AE-A0A6-4A69-A73E-30187B1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ED3B3-6463-4824-BB54-8AC6734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53E74-7824-4C22-983A-33457047B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2402-FE41-4F8D-AADD-68D4AFE88A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350A-2E49-4894-8463-08C1DD3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FB28-B40A-4B10-9C98-34336522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9897-7C75-4E0A-A170-0AC840F5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FD17-4BDB-4503-AA91-C03283A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F398-9057-41C4-9496-893251CC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FAD7-786A-46D0-8F2E-2DB6F1CD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653AA-C0CE-4007-B9F6-F8A8EC1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E4B0-993A-4947-8814-2DDAFF1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14C9-0AA4-43F5-B8DD-3E27795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6672-F159-465E-B35D-37F6770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12C20-AC6D-490B-A1C6-2CB80BE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3E2A-50DB-4621-A203-17CEC7852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67BF-5A02-4C2E-B5E8-CE87DCE0E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3C7F8-0403-4BF4-A894-C6E44B049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0D3E9-F84F-4417-BFEB-D458720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A1335-AEAD-42AA-AE9B-239870D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7AA05-D785-4217-8FD0-D7CBAC1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76B85-4F90-4583-86D5-661AAA89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41A00-9D17-4244-8F18-4A1BED0C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C803A-7E36-4023-86DE-9AFD9B3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4451A-1BA9-45B8-BF04-594C613A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41E6D-EBFD-4A25-B22B-2414F14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150A7-BF78-44D5-98A4-A1C7155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4D55F-2269-40A2-93E0-55D7C1E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02A7D-AB93-4D6D-86DB-B6C4694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C821A-6577-44D4-B695-0B5CBDF93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B91EA-5BA4-4B99-B381-1D4732CD6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977E1-2522-407F-A74E-D97F5227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0E9A2-1278-4932-83BD-C538995E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29928-739D-4E75-BE64-66F1739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03337-CFC3-4579-8C0B-F3C1DC47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003E2-3F2B-455F-A293-AD212B54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9ADB7-7221-48A2-A8A1-88E5BCF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29D8-A757-4741-B1C5-806F2AA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89DE1-0D21-41A0-A436-C0D4C69F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AB39F-80BA-42D7-B6A2-E324EB4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EB9E-C0E1-4AF3-BF40-D05EC2B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6350D-4BA1-4222-BC30-CFF1EB5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7D4AC-B385-4A6F-A31B-2D356EA0B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E3AE-4C3A-4B5D-9B71-66811E9D4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BA93-84A9-4635-AE24-79C7238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E6F4-CF5B-4D29-945F-B36FF9A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4F31-B059-4551-83AB-4388F704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B8145-3497-44D0-8676-11CE22E1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8F286-C36D-40D4-84A8-527818AB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166C-4EEE-41F6-9864-50B1D4AA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014F-F21A-4BA8-B3B8-BD039CE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51635-AFBF-4ADC-A8C2-0E09CCC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85CDD-4142-4267-81C9-4447AD6F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BAA8-7642-43A2-B7A9-578EA976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CC82F-9101-4B95-A460-D292414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6200-1963-487A-9DF4-889762E00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EE04D-DE19-4120-BF02-8E4F4827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6E95-928C-4786-B876-6C432BF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CE85C-2898-480D-9209-96EE70E2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D23DC-32B0-4B14-BCFF-BB1A6FA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01DA4-D4ED-4F58-AE09-0890437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6C1B-DAA4-4607-BFDB-60CB6253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8B2C1-519A-4B8D-AC18-611F02A7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E7A2-C351-44D1-9551-D095A8F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4725-2D2D-475F-A13A-166BD51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6B2C-45E0-445C-A3CD-4E05D8E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4A216-A469-472F-9A35-CF88CD34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DB9F-BCD1-4E46-9F76-B4DA5B2C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E05F6-8AE4-4364-A6D4-CD9F30E8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83EF-E6DE-428C-A832-70C32B9E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22EA1-3B9F-4902-A260-55F6E83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4384E-4E56-4A03-843C-4C012F7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5735D-FD18-4D2A-B7DA-6EB719A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B1AD-651A-4206-B55A-B71A7828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B5828-40E5-4A99-B85D-043E8C2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A4A6-E97A-4790-AB6B-F232C72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1029A-422D-4A27-8EEC-E516580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5EB13-9993-4FCD-BC47-23130C4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4BBB-1596-4F2E-9F36-43B4DB2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6A020-4CC3-4998-ABA7-3D46911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F1C8-9B1D-46BF-A91B-8AD4CEF5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0B74E-A63B-4F57-97AE-91A9E69C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1BF07-ADD9-4F2B-AD6F-ADFC2A1E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0962E-D197-4158-BD65-C9CC9E2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4879F-D800-4500-B0A9-1AE1C2DA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D5F0-4B7F-4DB4-B0E9-E335BE4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2CDF6-CB4E-40E3-AD3A-4AAF1B88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D67A7-62BF-4366-B2D1-0473FF2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26161-A330-4A12-816A-D4584AE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2C7BE-93B2-4938-915A-FADF969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DA96F-D437-4B55-9FB8-7E8352E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8F04E-BA11-42EB-95BC-57AF68E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CD0B4-5494-4233-9913-E336FEA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C5E3-055A-46E6-921A-D681B3D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3123E-A6B7-42B5-B7E5-15BF261B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4607-23D9-490C-A3F6-82060CDC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9CB60-0F15-4F61-911C-7A09AB56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455D4-0F79-493B-935A-99DA054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3D87E-EF12-4F1D-88AA-010C1C4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41039-650F-4A2E-A92D-5A337B1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378F1-7D8C-42C3-8BD4-39EF5C37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03C3F-30DF-4D56-9888-5584D90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5E475-76BB-4C75-9231-E4DC819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2C00-1907-4F53-A879-458094F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E1803-37C7-4AA8-82EF-89B3348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CD38B-27E1-4468-AA1C-7402EF1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DDA45-A24F-4C8C-8B31-22FB1E3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6513A-C8A0-4A0B-B6F6-86E2DF8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8E683-4109-4D7A-BCC6-3E04C1FA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3FFBD-60DB-4E94-B480-082851B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9B2CA-BCAB-4073-B6FD-0FC0D6CE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B71EC-7049-495B-A628-07C04932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96ADD-B815-4AA7-AAB4-CDC1D356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5256D-4C49-43B5-86D4-52AF95CB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FD742-2AB3-455F-9C26-5485BF1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C9A22-831A-4138-AA2C-918E175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221EA-E4FB-4164-AEE5-0089A161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32697-C662-4094-8969-01E7C56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B2525-1BED-4713-849E-084FCE3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725B5-DCDF-4228-B722-47F2098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CF0AE-D033-42BE-AD75-6A58B7CD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59966-B24F-4AD1-9206-25759A5C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94ABB-B6D3-4C78-ABE5-BF9F07A1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38F94-0E10-47EF-BABB-AD8A018D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1E86D-7F74-4898-BEC7-BA431B12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AB9A9-47F6-4B9C-9591-45592BC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DA777-10B0-4024-BA7E-2F3B63A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ED7CE-AF9C-4549-8951-EC876213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D114E-80A2-4A80-B264-1579FEE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2DFA1-57DF-465F-AE55-E098370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F17C0-2DAF-4DF4-8CDC-F6B9D30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856C7-FC65-4E13-9E5C-73CC844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23EB1-3EBF-4FA9-964F-76E727C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03588-BCFA-44B6-97E9-CEB5BCCB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A8C21-07F2-48D8-BEE5-29C7AB39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4E032-831D-45F4-9185-D829DFD6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57EB7-1410-4E6A-AB86-1D40FF4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C80A5-A8F2-4CED-B79D-FDA1835F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74E08-FDC5-4F44-B9BE-448C81D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A3E238-DE7C-4CEA-BB50-8EA05E5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910F6-3B05-4673-97E8-6F7229D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55997-6B75-42D9-9385-2799086F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71D05-92E0-4BB7-8AC0-46469BB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C6D8F-AE70-4848-81BD-868E822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8EFB6-3458-45FC-BE66-9519A4E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6522F-1581-40D2-94E5-7B8CFF7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F10EF-2C03-476F-832B-F351763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BEE10-914A-453A-91FA-0F0D2EC5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63825-FFBB-4231-B008-CE399367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8DC84-5364-4E04-8137-B9121AF5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DFD77-61FC-4ADE-9715-95B3BB51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D2551-3B67-453A-AC46-70C8509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97B80-07C3-4463-8F72-5E7656E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97464-0DAB-4E51-AB67-9B7995EC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F0C4D-F112-4CD0-9417-6A2824B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582AA-0DEE-4422-ABCC-00407A7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BB592-BAA3-439A-AAA8-8C1F008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B1C22-A14D-4A89-BE72-8AC43C2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7541F-958A-43E1-8E7D-79D03FD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76C5B-A111-46A8-ACE6-FE4BE9D87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CD26D-75C9-47F3-8853-18F0E832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4F3D9-23AD-4336-8320-03672749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C7C88-1404-4A45-BBD2-46734187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4D976-E1B8-431D-AC0C-34B4BC0C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91C18-DA03-411C-A57B-384BE27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6834D-6B6B-4459-A0E4-CC738A0C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620A8-014F-40C2-B569-757A47C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AAEBA-323A-4A80-89A3-BDB88E3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6FF2D-FA37-4DF7-A74A-09AB94E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0CF50-F89D-4413-9B6D-1A97D52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67EFA-F005-4C76-AFAF-209AB80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1E13C-5926-425B-AFA9-21E05FD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C3782-E292-4C6F-B6DE-E566B742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FD5D2-C3FE-408B-940B-1438E5C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8AF99-DEC5-4075-AEAA-8972F871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074A2-3CD8-4952-BDC8-9C61185F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0FAA6-810A-438B-BE88-C6412423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32A37-BB92-4288-932F-531085F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6F7AA-216F-4515-A726-768A456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5394E-E80D-4B68-A960-6E47574E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77FEB-94DF-4A3F-95E6-07834BF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0F7FA-7B25-4FC1-B06E-77256EAB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6A827-62F5-4489-9B23-F6A206D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A3E6B-4347-411D-A3C0-46AEB24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93B9A-E7FE-47A7-8590-C636C70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62382-BE17-4A74-9011-D63C319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CBFB3-C860-45E9-8E3D-E96E1FB7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D51A5-2306-49D5-8792-A6D408E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AC34D-C4AC-4CEB-B9A7-DDDA4166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8FC4E-21A2-43A2-A06A-9FAF29F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55689-B4A1-4CE9-A359-A3A887D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C4C03-1BF9-4DBB-AAED-D9245C5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60C75-52B5-422C-BFDF-F895D9D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8B534-4F01-43B6-83BF-FDA32A8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C6E81-FC60-4A32-8D03-24E79EFD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D70C3-2B5E-4977-A9C7-6431D1B2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F25D4-DE64-4605-B7D9-92D6F50B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8998E-718A-4EB3-8EC9-9FA0188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06FDC-7360-49B8-AFFE-0F180F1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BA2C6-A5B0-47AC-AB49-D097DAA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E6500-8D4E-4A0C-9B91-BE84264F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3AA9F-AF68-4427-B55D-EAC20820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5BF3B-EF04-4068-9D6B-B1876199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6F11-7E54-494D-BEA7-556C3F8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E29C0-6727-4100-B527-EA96186F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4EE6F-0B85-41EE-995C-0635F50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32000-A30D-4341-A978-B39CEF53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CAE75-ADFC-4461-BD58-C804F9BE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53E6E-CBB8-41D8-B7C1-917F6BC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508FC-8271-47FC-BFB7-FA59A52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2B746-2F22-49FE-970D-F338426AD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899E-D33E-4873-81C4-6B8864496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BAA5-3E6D-45EE-9CB7-77B460F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A796-1AD4-44BB-ADB5-6A7AFC6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EB8E-F827-4010-B2A2-21A4A683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114F-B102-4526-A0F0-599E2250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3591-0918-4939-BE6B-FD76B614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702D-4AC9-4CE3-B453-4B96122F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2E09-EDE9-4979-A445-C29DC71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EDFB-898B-4673-B124-C2EA939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2C8A-A013-49CF-BC44-BB18762D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8CD6-C9CB-4753-B2C8-EE0C892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21A7-697C-4EC4-B725-21328DC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385A-9BB1-4274-9619-95E3DEE47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A264B-D891-4036-9320-07D3E5EC1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3832-9DA1-4EA5-99C5-3084C720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D7DF0-05CF-48E8-851A-DF19041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C480D-B634-4279-A4A1-46FAD7A7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F8618-5942-4D12-99A6-156A2EC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9A453-A9A5-4624-903A-691E524D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06A22-569A-4220-AFD6-DC8CDD7C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0AACB-155D-4B87-A748-44319BE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23A28-A07B-4D0E-A030-D550ADEA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1D6D3-B1ED-4E97-B585-6920500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BCBB3-BE4F-4470-9F99-33241B90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AEE0A-3DAE-486F-9AE4-6764413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897D-06C1-468B-8AA8-EE854FA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023ED-02F2-43F2-BF2E-96E52E1B5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1D0BA-D729-4C87-8A4B-FDB81E2FE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F6F059-AE75-4D1B-BAE9-D9363157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194ED3-43D9-40F4-B4CA-534F586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FA39B-0A53-4DA7-B61B-84B72E9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4048D-C13F-4A4A-B9CD-6E4CA3A3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55C09-863F-4652-89A4-05EB793A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E1DD9-DFF3-41CD-ACFB-90492EA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1F8B0-9CA5-4788-999C-4437ED40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7631E-45E2-43D9-8E3F-719866B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1C86-A3D9-4392-9DB6-3DA7C786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957EA5-1C68-42F7-BDE8-90F1BDA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1F94D-EEEE-426A-943B-F12B16F8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849D8-F40A-4FCA-9891-1E04E0898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3131-1AEF-4C0C-8AA7-E7B7E58A1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E826-5D76-40DB-9D6D-289F152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041FC-F552-4434-867A-08E4EBB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D1BC5-F567-47DB-A1AE-CF1EF9D7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4DC0-EC5B-4B7D-BEA1-1B55E555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9EC6-647B-4815-8224-37CC8D09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0A38-D166-4854-A897-5054E432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085D-99BC-43D2-93DA-76958E73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9CE6-6934-42B2-87F9-E0BDBF38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7183-AF68-49FB-8CC3-632B4E6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C1FE-CC97-4181-8254-61166C8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A67C5-BB6D-4D35-AD72-C32AD11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4B0E-BA9A-446F-A5C1-6CCE0BCD8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17B98-C82E-465C-9831-702585ECE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659BF-2EA7-4759-8AF1-F9293E3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700A4-6BB8-47D9-AF21-0FB1230E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C7BD2-40DD-4DBD-8BBB-1F6E905A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8B51B-B90A-4029-9199-73E88AA2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AEAA-5A25-41E1-AC7E-027D9D97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2FC26-227C-472C-94DA-8EF1ACBD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51E7F-73A2-4C98-9A44-607BC5B0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85602-EA2B-4247-B96C-5B65F9D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E5948-D7B4-43E5-8160-99908840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8A5E9-609A-4FB3-966C-4C130D5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75646-EB36-461E-8994-C262A7F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66055-E7F7-4834-9DAB-9B63D1299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B5EF8-A0A8-424D-9FF2-6CC5F2B8A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2FF1E8-599F-46E3-9E4B-4C537D89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A19285-C04E-4257-8661-948AB122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F0F5-9E7E-4238-B977-CFB621C97F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7343-7720-42B4-9316-32DC837C70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800E-5F2C-44C0-82F7-9234F666C7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3DA0-D293-4D6F-A182-85EC469EF2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B12A-0836-4F9B-BD75-F935B80365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93A8-A1FA-437B-843C-7C86AA115B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188-FF13-4BD7-AD5E-6E0164BA05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AD8-AC0C-45EE-8250-C2BE902F66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EE57-8C9F-41E8-9114-E3842FB849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CD7-4CA8-4EC1-868D-E13F0FF89E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9677-DA5E-46CD-AEA0-3879A6B4F7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78F2-E117-4136-97EF-BC40596B53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217-2F11-4DAA-9B96-3881747D87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84B-53FE-42E1-9721-2A836168EA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D267-C5A9-46F3-B0F2-4ACF75CCC5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C71-3F57-46AF-8235-3CC6F06BD5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5A8-6C65-461D-911F-4449AB854D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57BA-3688-4A18-95A0-D2B2CFA604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BC19-F428-4373-9A7A-10DA81A2C3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835E-DAB5-4E1E-BD0C-2D720CD64D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EF6-FEFC-462D-8B6C-ECCA56A923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BDF-31BA-45FB-B57C-66E901976E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51E-34A2-4BEF-8FA0-1825EC856D0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8976-3B58-47F2-881D-E987E05193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image" Target="../media/image19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8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62320" y="2795760"/>
            <a:ext cx="645840" cy="53496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观 察 物 体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 察 物 体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4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4"/>
          <p:cNvSpPr/>
          <p:nvPr/>
        </p:nvSpPr>
        <p:spPr>
          <a:xfrm>
            <a:off x="1082520" y="68400"/>
            <a:ext cx="168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一、情境创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2" descr="DSCF2579"/>
          <p:cNvPicPr/>
          <p:nvPr/>
        </p:nvPicPr>
        <p:blipFill>
          <a:blip r:embed="rId8"/>
          <a:srcRect l="23645" t="7652" r="11888" b="1913"/>
          <a:stretch/>
        </p:blipFill>
        <p:spPr>
          <a:xfrm>
            <a:off x="1547640" y="9111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" descr="DSCF2580"/>
          <p:cNvPicPr/>
          <p:nvPr/>
        </p:nvPicPr>
        <p:blipFill>
          <a:blip r:embed="rId9"/>
          <a:srcRect l="19793" t="5313" r="15409" b="0"/>
          <a:stretch/>
        </p:blipFill>
        <p:spPr>
          <a:xfrm>
            <a:off x="3708360" y="9111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DSCF2581"/>
          <p:cNvPicPr/>
          <p:nvPr/>
        </p:nvPicPr>
        <p:blipFill>
          <a:blip r:embed="rId10"/>
          <a:srcRect l="18464" t="3188" r="14479" b="3719"/>
          <a:stretch/>
        </p:blipFill>
        <p:spPr>
          <a:xfrm>
            <a:off x="5796000" y="911160"/>
            <a:ext cx="180036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13" name="组合 4150"/>
          <p:cNvGrpSpPr/>
          <p:nvPr/>
        </p:nvGrpSpPr>
        <p:grpSpPr>
          <a:xfrm>
            <a:off x="393840" y="2568600"/>
            <a:ext cx="4249080" cy="1279440"/>
            <a:chOff x="393840" y="2568600"/>
            <a:chExt cx="4249080" cy="1279440"/>
          </a:xfrm>
        </p:grpSpPr>
        <p:pic>
          <p:nvPicPr>
            <p:cNvPr id="1014" name="图片 4128" descr="女天使副本"/>
            <p:cNvPicPr/>
            <p:nvPr/>
          </p:nvPicPr>
          <p:blipFill>
            <a:blip r:embed="rId11"/>
            <a:stretch/>
          </p:blipFill>
          <p:spPr>
            <a:xfrm>
              <a:off x="393840" y="256860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圆角矩形标注 4129"/>
            <p:cNvSpPr/>
            <p:nvPr/>
          </p:nvSpPr>
          <p:spPr>
            <a:xfrm>
              <a:off x="1906200" y="3144600"/>
              <a:ext cx="2736720" cy="397080"/>
            </a:xfrm>
            <a:prstGeom prst="wedgeRoundRectCallout">
              <a:avLst>
                <a:gd name="adj1" fmla="val -56259"/>
                <a:gd name="adj2" fmla="val 42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猜一猜，这是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4151"/>
          <p:cNvGrpSpPr/>
          <p:nvPr/>
        </p:nvGrpSpPr>
        <p:grpSpPr>
          <a:xfrm>
            <a:off x="826920" y="4091040"/>
            <a:ext cx="3745080" cy="1717560"/>
            <a:chOff x="826920" y="4091040"/>
            <a:chExt cx="3745080" cy="1717560"/>
          </a:xfrm>
        </p:grpSpPr>
        <p:sp>
          <p:nvSpPr>
            <p:cNvPr id="1017" name="圆角矩形标注 4135"/>
            <p:cNvSpPr/>
            <p:nvPr/>
          </p:nvSpPr>
          <p:spPr>
            <a:xfrm>
              <a:off x="2195280" y="4152600"/>
              <a:ext cx="2376720" cy="397080"/>
            </a:xfrm>
            <a:prstGeom prst="wedgeRoundRectCallout">
              <a:avLst>
                <a:gd name="adj1" fmla="val -60342"/>
                <a:gd name="adj2" fmla="val 118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观察物体时一定要全面观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8" name="Picture 52" descr="P-055"/>
            <p:cNvPicPr/>
            <p:nvPr/>
          </p:nvPicPr>
          <p:blipFill>
            <a:blip r:embed="rId12"/>
            <a:stretch/>
          </p:blipFill>
          <p:spPr>
            <a:xfrm>
              <a:off x="826920" y="4091040"/>
              <a:ext cx="1752480" cy="17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9" name="组合 4152"/>
          <p:cNvGrpSpPr/>
          <p:nvPr/>
        </p:nvGrpSpPr>
        <p:grpSpPr>
          <a:xfrm>
            <a:off x="5435640" y="3213000"/>
            <a:ext cx="3176640" cy="1873440"/>
            <a:chOff x="5435640" y="3213000"/>
            <a:chExt cx="3176640" cy="1873440"/>
          </a:xfrm>
        </p:grpSpPr>
        <p:sp>
          <p:nvSpPr>
            <p:cNvPr id="1020" name="圆角矩形标注 4141"/>
            <p:cNvSpPr/>
            <p:nvPr/>
          </p:nvSpPr>
          <p:spPr>
            <a:xfrm>
              <a:off x="5435640" y="3828960"/>
              <a:ext cx="1800360" cy="693720"/>
            </a:xfrm>
            <a:prstGeom prst="wedgeRoundRectCallout">
              <a:avLst>
                <a:gd name="adj1" fmla="val 62333"/>
                <a:gd name="adj2" fmla="val -25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原来是一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存钱罐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1" name="图片 4142" descr="13"/>
            <p:cNvPicPr/>
            <p:nvPr/>
          </p:nvPicPr>
          <p:blipFill>
            <a:blip r:embed="rId13"/>
            <a:stretch/>
          </p:blipFill>
          <p:spPr>
            <a:xfrm>
              <a:off x="7380360" y="3213000"/>
              <a:ext cx="123192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组合 4155"/>
          <p:cNvGrpSpPr/>
          <p:nvPr/>
        </p:nvGrpSpPr>
        <p:grpSpPr>
          <a:xfrm>
            <a:off x="4932360" y="3360600"/>
            <a:ext cx="3833640" cy="1457280"/>
            <a:chOff x="4932360" y="3360600"/>
            <a:chExt cx="3833640" cy="1457280"/>
          </a:xfrm>
        </p:grpSpPr>
        <p:sp>
          <p:nvSpPr>
            <p:cNvPr id="1023" name="圆角矩形标注 4144"/>
            <p:cNvSpPr/>
            <p:nvPr/>
          </p:nvSpPr>
          <p:spPr>
            <a:xfrm>
              <a:off x="4932360" y="3843000"/>
              <a:ext cx="2003400" cy="397080"/>
            </a:xfrm>
            <a:prstGeom prst="wedgeRoundRectCallout">
              <a:avLst>
                <a:gd name="adj1" fmla="val 61800"/>
                <a:gd name="adj2" fmla="val 160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是一个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4" name="图片 4154" descr="03"/>
            <p:cNvPicPr/>
            <p:nvPr/>
          </p:nvPicPr>
          <p:blipFill>
            <a:blip r:embed="rId14"/>
            <a:stretch/>
          </p:blipFill>
          <p:spPr>
            <a:xfrm>
              <a:off x="7213680" y="3360600"/>
              <a:ext cx="1552320" cy="14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5" name="组合 4158"/>
          <p:cNvGrpSpPr/>
          <p:nvPr/>
        </p:nvGrpSpPr>
        <p:grpSpPr>
          <a:xfrm>
            <a:off x="4829040" y="2971800"/>
            <a:ext cx="3886200" cy="1928880"/>
            <a:chOff x="4829040" y="2971800"/>
            <a:chExt cx="3886200" cy="1928880"/>
          </a:xfrm>
        </p:grpSpPr>
        <p:pic>
          <p:nvPicPr>
            <p:cNvPr id="1026" name="图片 4143" descr="20"/>
            <p:cNvPicPr/>
            <p:nvPr/>
          </p:nvPicPr>
          <p:blipFill>
            <a:blip r:embed="rId15"/>
            <a:srcRect l="0" t="11480" r="19837" b="13518"/>
            <a:stretch/>
          </p:blipFill>
          <p:spPr>
            <a:xfrm>
              <a:off x="6983280" y="2971800"/>
              <a:ext cx="173196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圆角矩形标注 4145"/>
            <p:cNvSpPr/>
            <p:nvPr/>
          </p:nvSpPr>
          <p:spPr>
            <a:xfrm>
              <a:off x="4829040" y="3827520"/>
              <a:ext cx="2478240" cy="693720"/>
            </a:xfrm>
            <a:prstGeom prst="wedgeRoundRectCallout">
              <a:avLst>
                <a:gd name="adj1" fmla="val 58870"/>
                <a:gd name="adj2" fmla="val -246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是一只小兔子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背着一个大蘑菇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2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1" name="椭圆 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9" name="八边形 7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5134"/>
          <p:cNvGrpSpPr/>
          <p:nvPr/>
        </p:nvGrpSpPr>
        <p:grpSpPr>
          <a:xfrm>
            <a:off x="611280" y="3789360"/>
            <a:ext cx="3960360" cy="1279440"/>
            <a:chOff x="611280" y="3789360"/>
            <a:chExt cx="3960360" cy="1279440"/>
          </a:xfrm>
        </p:grpSpPr>
        <p:pic>
          <p:nvPicPr>
            <p:cNvPr id="1041" name="图片 5131" descr="女天使副本"/>
            <p:cNvPicPr/>
            <p:nvPr/>
          </p:nvPicPr>
          <p:blipFill>
            <a:blip r:embed="rId8"/>
            <a:stretch/>
          </p:blipFill>
          <p:spPr>
            <a:xfrm>
              <a:off x="611280" y="378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圆角矩形标注 5132"/>
            <p:cNvSpPr/>
            <p:nvPr/>
          </p:nvSpPr>
          <p:spPr>
            <a:xfrm>
              <a:off x="2195280" y="4068720"/>
              <a:ext cx="2376360" cy="693720"/>
            </a:xfrm>
            <a:prstGeom prst="wedgeRoundRectCallout">
              <a:avLst>
                <a:gd name="adj1" fmla="val -63282"/>
                <a:gd name="adj2" fmla="val 32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下面这些图分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谁看到的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3" name="图片 5137" descr="未标题-1"/>
          <p:cNvPicPr/>
          <p:nvPr/>
        </p:nvPicPr>
        <p:blipFill>
          <a:blip r:embed="rId9"/>
          <a:stretch/>
        </p:blipFill>
        <p:spPr>
          <a:xfrm>
            <a:off x="2340000" y="1197000"/>
            <a:ext cx="4608360" cy="29811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138" descr="1"/>
          <p:cNvPicPr/>
          <p:nvPr/>
        </p:nvPicPr>
        <p:blipFill>
          <a:blip r:embed="rId10"/>
          <a:stretch/>
        </p:blipFill>
        <p:spPr>
          <a:xfrm>
            <a:off x="1906560" y="5086440"/>
            <a:ext cx="5545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4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48" name="椭圆 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6" name="组合 7229"/>
          <p:cNvGrpSpPr/>
          <p:nvPr/>
        </p:nvGrpSpPr>
        <p:grpSpPr>
          <a:xfrm>
            <a:off x="5618160" y="404640"/>
            <a:ext cx="2879640" cy="1873080"/>
            <a:chOff x="5618160" y="404640"/>
            <a:chExt cx="2879640" cy="1873080"/>
          </a:xfrm>
        </p:grpSpPr>
        <p:sp>
          <p:nvSpPr>
            <p:cNvPr id="1057" name="圆角矩形标注 7207"/>
            <p:cNvSpPr/>
            <p:nvPr/>
          </p:nvSpPr>
          <p:spPr>
            <a:xfrm>
              <a:off x="5618160" y="588600"/>
              <a:ext cx="1833480" cy="693720"/>
            </a:xfrm>
            <a:prstGeom prst="wedgeRoundRectCallout">
              <a:avLst>
                <a:gd name="adj1" fmla="val 60814"/>
                <a:gd name="adj2" fmla="val 44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把大熊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转一转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8" name="图片 7208" descr="13"/>
            <p:cNvPicPr/>
            <p:nvPr/>
          </p:nvPicPr>
          <p:blipFill>
            <a:blip r:embed="rId8"/>
            <a:stretch/>
          </p:blipFill>
          <p:spPr>
            <a:xfrm>
              <a:off x="7451640" y="404640"/>
              <a:ext cx="104616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9" name="组合 7230"/>
          <p:cNvGrpSpPr/>
          <p:nvPr/>
        </p:nvGrpSpPr>
        <p:grpSpPr>
          <a:xfrm>
            <a:off x="6576840" y="2251080"/>
            <a:ext cx="2387880" cy="2988720"/>
            <a:chOff x="6576840" y="2251080"/>
            <a:chExt cx="2387880" cy="2988720"/>
          </a:xfrm>
        </p:grpSpPr>
        <p:sp>
          <p:nvSpPr>
            <p:cNvPr id="1060" name="圆角矩形标注 7209"/>
            <p:cNvSpPr/>
            <p:nvPr/>
          </p:nvSpPr>
          <p:spPr>
            <a:xfrm>
              <a:off x="6576840" y="2251080"/>
              <a:ext cx="1667160" cy="989640"/>
            </a:xfrm>
            <a:prstGeom prst="wedgeRoundRectCallout">
              <a:avLst>
                <a:gd name="adj1" fmla="val 33222"/>
                <a:gd name="adj2" fmla="val 81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可以我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围着大熊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转一转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1" name="图片 7211" descr="12"/>
            <p:cNvPicPr/>
            <p:nvPr/>
          </p:nvPicPr>
          <p:blipFill>
            <a:blip r:embed="rId9"/>
            <a:stretch/>
          </p:blipFill>
          <p:spPr>
            <a:xfrm flipH="1">
              <a:off x="7719840" y="3358800"/>
              <a:ext cx="1244880" cy="18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2" name="Picture 52" descr="P-055"/>
          <p:cNvPicPr/>
          <p:nvPr/>
        </p:nvPicPr>
        <p:blipFill>
          <a:blip r:embed="rId10"/>
          <a:stretch/>
        </p:blipFill>
        <p:spPr>
          <a:xfrm>
            <a:off x="324000" y="2998800"/>
            <a:ext cx="1616040" cy="1584360"/>
          </a:xfrm>
          <a:prstGeom prst="rect">
            <a:avLst/>
          </a:prstGeom>
          <a:ln w="0">
            <a:noFill/>
          </a:ln>
        </p:spPr>
      </p:pic>
      <p:sp>
        <p:nvSpPr>
          <p:cNvPr id="1063" name="圆角矩形标注 7199"/>
          <p:cNvSpPr/>
          <p:nvPr/>
        </p:nvSpPr>
        <p:spPr>
          <a:xfrm>
            <a:off x="438120" y="1884240"/>
            <a:ext cx="1728720" cy="693720"/>
          </a:xfrm>
          <a:prstGeom prst="wedgeRoundRectCallout">
            <a:avLst>
              <a:gd name="adj1" fmla="val -20893"/>
              <a:gd name="adj2" fmla="val 973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物体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面、有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21"/>
          <p:cNvSpPr/>
          <p:nvPr/>
        </p:nvSpPr>
        <p:spPr>
          <a:xfrm>
            <a:off x="1901880" y="570564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5"/>
          <p:cNvSpPr/>
          <p:nvPr/>
        </p:nvSpPr>
        <p:spPr>
          <a:xfrm>
            <a:off x="3375000" y="5710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6"/>
          <p:cNvSpPr/>
          <p:nvPr/>
        </p:nvSpPr>
        <p:spPr>
          <a:xfrm>
            <a:off x="4700520" y="57103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7"/>
          <p:cNvSpPr/>
          <p:nvPr/>
        </p:nvSpPr>
        <p:spPr>
          <a:xfrm>
            <a:off x="6280200" y="571032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7226" descr="未标题-1"/>
          <p:cNvPicPr/>
          <p:nvPr/>
        </p:nvPicPr>
        <p:blipFill>
          <a:blip r:embed="rId11"/>
          <a:stretch/>
        </p:blipFill>
        <p:spPr>
          <a:xfrm>
            <a:off x="2340000" y="1414440"/>
            <a:ext cx="4608360" cy="298152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7227" descr="1"/>
          <p:cNvPicPr/>
          <p:nvPr/>
        </p:nvPicPr>
        <p:blipFill>
          <a:blip r:embed="rId12"/>
          <a:stretch/>
        </p:blipFill>
        <p:spPr>
          <a:xfrm>
            <a:off x="1906560" y="4656240"/>
            <a:ext cx="5545080" cy="1090440"/>
          </a:xfrm>
          <a:prstGeom prst="rect">
            <a:avLst/>
          </a:prstGeom>
          <a:ln w="0">
            <a:noFill/>
          </a:ln>
        </p:spPr>
      </p:pic>
      <p:sp>
        <p:nvSpPr>
          <p:cNvPr id="1070" name="圆角矩形标注 7203"/>
          <p:cNvSpPr/>
          <p:nvPr/>
        </p:nvSpPr>
        <p:spPr>
          <a:xfrm>
            <a:off x="324000" y="1558800"/>
            <a:ext cx="1993680" cy="989640"/>
          </a:xfrm>
          <a:prstGeom prst="wedgeRoundRectCallout">
            <a:avLst>
              <a:gd name="adj1" fmla="val -18967"/>
              <a:gd name="adj2" fmla="val 9210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要让每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全面地观察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熊猫，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72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3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74" name="椭圆 3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2" name="Rectangle 64"/>
          <p:cNvSpPr/>
          <p:nvPr/>
        </p:nvSpPr>
        <p:spPr>
          <a:xfrm>
            <a:off x="523800" y="9216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图片 8218" descr="13"/>
          <p:cNvPicPr/>
          <p:nvPr/>
        </p:nvPicPr>
        <p:blipFill>
          <a:blip r:embed="rId8"/>
          <a:stretch/>
        </p:blipFill>
        <p:spPr>
          <a:xfrm>
            <a:off x="5151600" y="2203560"/>
            <a:ext cx="3020760" cy="410508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2"/>
          <p:cNvSpPr/>
          <p:nvPr/>
        </p:nvSpPr>
        <p:spPr>
          <a:xfrm>
            <a:off x="5003640" y="2316240"/>
            <a:ext cx="0" cy="3816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直接连接符 1"/>
          <p:cNvSpPr/>
          <p:nvPr/>
        </p:nvSpPr>
        <p:spPr>
          <a:xfrm>
            <a:off x="5829480" y="3975120"/>
            <a:ext cx="1295280" cy="1512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直接连接符 17"/>
          <p:cNvSpPr/>
          <p:nvPr/>
        </p:nvSpPr>
        <p:spPr>
          <a:xfrm flipV="1">
            <a:off x="5838840" y="3644640"/>
            <a:ext cx="1225440" cy="8650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直接连接符 19"/>
          <p:cNvSpPr/>
          <p:nvPr/>
        </p:nvSpPr>
        <p:spPr>
          <a:xfrm flipV="1">
            <a:off x="5867280" y="2781360"/>
            <a:ext cx="881280" cy="2719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直接连接符 22"/>
          <p:cNvSpPr/>
          <p:nvPr/>
        </p:nvSpPr>
        <p:spPr>
          <a:xfrm>
            <a:off x="5940360" y="2922480"/>
            <a:ext cx="1090800" cy="1773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5"/>
          <p:cNvSpPr/>
          <p:nvPr/>
        </p:nvSpPr>
        <p:spPr>
          <a:xfrm>
            <a:off x="392040" y="1619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连一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8220"/>
          <p:cNvGrpSpPr/>
          <p:nvPr/>
        </p:nvGrpSpPr>
        <p:grpSpPr>
          <a:xfrm>
            <a:off x="4538520" y="801720"/>
            <a:ext cx="4181760" cy="1290600"/>
            <a:chOff x="4538520" y="801720"/>
            <a:chExt cx="4181760" cy="1290600"/>
          </a:xfrm>
        </p:grpSpPr>
        <p:pic>
          <p:nvPicPr>
            <p:cNvPr id="1091" name="图片 8214" descr="女天使"/>
            <p:cNvPicPr/>
            <p:nvPr/>
          </p:nvPicPr>
          <p:blipFill>
            <a:blip r:embed="rId9"/>
            <a:stretch/>
          </p:blipFill>
          <p:spPr>
            <a:xfrm>
              <a:off x="7196040" y="8128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圆角矩形标注 8215"/>
            <p:cNvSpPr/>
            <p:nvPr/>
          </p:nvSpPr>
          <p:spPr>
            <a:xfrm>
              <a:off x="4538520" y="801720"/>
              <a:ext cx="2554560" cy="693720"/>
            </a:xfrm>
            <a:prstGeom prst="wedgeRoundRectCallout">
              <a:avLst>
                <a:gd name="adj1" fmla="val 58944"/>
                <a:gd name="adj2" fmla="val 2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下面右边的这些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别是谁看到的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3" name="图片 8217" descr="2"/>
          <p:cNvPicPr/>
          <p:nvPr/>
        </p:nvPicPr>
        <p:blipFill>
          <a:blip r:embed="rId10"/>
          <a:stretch/>
        </p:blipFill>
        <p:spPr>
          <a:xfrm>
            <a:off x="324000" y="3067200"/>
            <a:ext cx="442728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32"/>
          <p:cNvSpPr/>
          <p:nvPr/>
        </p:nvSpPr>
        <p:spPr>
          <a:xfrm>
            <a:off x="366840" y="96372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不同位置观察同一物体，所看到的形状是不同的，要分辨出观察者看到的是什么图形，关键是要弄清观察者看到的是物体的哪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组合 2"/>
          <p:cNvGrpSpPr/>
          <p:nvPr/>
        </p:nvGrpSpPr>
        <p:grpSpPr>
          <a:xfrm>
            <a:off x="-50760" y="87480"/>
            <a:ext cx="3244680" cy="527040"/>
            <a:chOff x="-50760" y="87480"/>
            <a:chExt cx="3244680" cy="527040"/>
          </a:xfrm>
        </p:grpSpPr>
        <p:pic>
          <p:nvPicPr>
            <p:cNvPr id="1108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0812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9" name="组合 4"/>
            <p:cNvGrpSpPr/>
            <p:nvPr/>
          </p:nvGrpSpPr>
          <p:grpSpPr>
            <a:xfrm>
              <a:off x="-50760" y="182520"/>
              <a:ext cx="461160" cy="274320"/>
              <a:chOff x="-50760" y="182520"/>
              <a:chExt cx="461160" cy="274320"/>
            </a:xfrm>
          </p:grpSpPr>
          <p:sp>
            <p:nvSpPr>
              <p:cNvPr id="1110" name="椭圆 4"/>
              <p:cNvSpPr/>
              <p:nvPr/>
            </p:nvSpPr>
            <p:spPr>
              <a:xfrm rot="16200000">
                <a:off x="19836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03120"/>
                <a:ext cx="2160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椭圆 8"/>
              <p:cNvSpPr/>
              <p:nvPr/>
            </p:nvSpPr>
            <p:spPr>
              <a:xfrm rot="16200000">
                <a:off x="19836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3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196200"/>
                <a:ext cx="2160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00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00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00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00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18" name="图片 9227" descr="14"/>
          <p:cNvPicPr/>
          <p:nvPr/>
        </p:nvPicPr>
        <p:blipFill>
          <a:blip r:embed="rId8"/>
          <a:stretch/>
        </p:blipFill>
        <p:spPr>
          <a:xfrm>
            <a:off x="755640" y="2268360"/>
            <a:ext cx="7613640" cy="342756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5"/>
          <p:cNvSpPr/>
          <p:nvPr/>
        </p:nvSpPr>
        <p:spPr>
          <a:xfrm>
            <a:off x="5275800" y="5238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14"/>
          <p:cNvSpPr/>
          <p:nvPr/>
        </p:nvSpPr>
        <p:spPr>
          <a:xfrm>
            <a:off x="6245640" y="35640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15"/>
          <p:cNvSpPr/>
          <p:nvPr/>
        </p:nvSpPr>
        <p:spPr>
          <a:xfrm>
            <a:off x="7148880" y="5238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5"/>
          <p:cNvSpPr/>
          <p:nvPr/>
        </p:nvSpPr>
        <p:spPr>
          <a:xfrm>
            <a:off x="387360" y="1260360"/>
            <a:ext cx="87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下面右边的三幅照片分别是在哪个位置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24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26" name="椭圆 4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34" name="Group 13"/>
          <p:cNvGrpSpPr/>
          <p:nvPr/>
        </p:nvGrpSpPr>
        <p:grpSpPr>
          <a:xfrm>
            <a:off x="4356000" y="2189160"/>
            <a:ext cx="4032000" cy="750600"/>
            <a:chOff x="4356000" y="2189160"/>
            <a:chExt cx="4032000" cy="750600"/>
          </a:xfrm>
        </p:grpSpPr>
        <p:pic>
          <p:nvPicPr>
            <p:cNvPr id="1135" name="Picture 14" descr=""/>
            <p:cNvPicPr/>
            <p:nvPr/>
          </p:nvPicPr>
          <p:blipFill>
            <a:blip r:embed="rId8"/>
            <a:stretch/>
          </p:blipFill>
          <p:spPr>
            <a:xfrm>
              <a:off x="4356000" y="2189160"/>
              <a:ext cx="779760" cy="74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15" descr=""/>
            <p:cNvPicPr/>
            <p:nvPr/>
          </p:nvPicPr>
          <p:blipFill>
            <a:blip r:embed="rId9"/>
            <a:stretch/>
          </p:blipFill>
          <p:spPr>
            <a:xfrm>
              <a:off x="5436360" y="2307240"/>
              <a:ext cx="90432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16" descr=""/>
            <p:cNvPicPr/>
            <p:nvPr/>
          </p:nvPicPr>
          <p:blipFill>
            <a:blip r:embed="rId10"/>
            <a:stretch/>
          </p:blipFill>
          <p:spPr>
            <a:xfrm>
              <a:off x="7608240" y="2189160"/>
              <a:ext cx="779760" cy="74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8" name="文本框 2"/>
          <p:cNvSpPr/>
          <p:nvPr/>
        </p:nvSpPr>
        <p:spPr>
          <a:xfrm>
            <a:off x="4572000" y="354816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小狗看到的是图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小猴看到的是图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小猫看到的是图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小鸟看到的是图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2"/>
          <p:cNvSpPr/>
          <p:nvPr/>
        </p:nvSpPr>
        <p:spPr>
          <a:xfrm>
            <a:off x="4444920" y="29512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"/>
          <p:cNvSpPr/>
          <p:nvPr/>
        </p:nvSpPr>
        <p:spPr>
          <a:xfrm>
            <a:off x="5603760" y="29512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2"/>
          <p:cNvSpPr/>
          <p:nvPr/>
        </p:nvSpPr>
        <p:spPr>
          <a:xfrm>
            <a:off x="6727680" y="29368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直接连接符 15"/>
          <p:cNvSpPr/>
          <p:nvPr/>
        </p:nvSpPr>
        <p:spPr>
          <a:xfrm>
            <a:off x="4140360" y="2062080"/>
            <a:ext cx="0" cy="3132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2"/>
          <p:cNvSpPr/>
          <p:nvPr/>
        </p:nvSpPr>
        <p:spPr>
          <a:xfrm>
            <a:off x="7745400" y="29512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2"/>
          <p:cNvSpPr/>
          <p:nvPr/>
        </p:nvSpPr>
        <p:spPr>
          <a:xfrm>
            <a:off x="6524640" y="46990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2"/>
          <p:cNvSpPr/>
          <p:nvPr/>
        </p:nvSpPr>
        <p:spPr>
          <a:xfrm>
            <a:off x="6524640" y="412272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2"/>
          <p:cNvSpPr/>
          <p:nvPr/>
        </p:nvSpPr>
        <p:spPr>
          <a:xfrm>
            <a:off x="6524640" y="52070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2"/>
          <p:cNvSpPr/>
          <p:nvPr/>
        </p:nvSpPr>
        <p:spPr>
          <a:xfrm>
            <a:off x="6526080" y="35384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5"/>
          <p:cNvSpPr/>
          <p:nvPr/>
        </p:nvSpPr>
        <p:spPr>
          <a:xfrm>
            <a:off x="392040" y="10447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组合 10278"/>
          <p:cNvGrpSpPr/>
          <p:nvPr/>
        </p:nvGrpSpPr>
        <p:grpSpPr>
          <a:xfrm>
            <a:off x="701640" y="2176560"/>
            <a:ext cx="3006720" cy="2689200"/>
            <a:chOff x="701640" y="2176560"/>
            <a:chExt cx="3006720" cy="2689200"/>
          </a:xfrm>
        </p:grpSpPr>
        <p:pic>
          <p:nvPicPr>
            <p:cNvPr id="1150" name="Picture 3" descr=""/>
            <p:cNvPicPr/>
            <p:nvPr/>
          </p:nvPicPr>
          <p:blipFill>
            <a:blip r:embed="rId11"/>
            <a:srcRect l="1228" t="0" r="0" b="0"/>
            <a:stretch/>
          </p:blipFill>
          <p:spPr>
            <a:xfrm>
              <a:off x="1378080" y="2740320"/>
              <a:ext cx="203832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图片 10270" descr="小鸟"/>
            <p:cNvPicPr/>
            <p:nvPr/>
          </p:nvPicPr>
          <p:blipFill>
            <a:blip r:embed="rId12"/>
            <a:stretch/>
          </p:blipFill>
          <p:spPr>
            <a:xfrm>
              <a:off x="2089080" y="2176560"/>
              <a:ext cx="6685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图片 10271" descr="小狗"/>
            <p:cNvPicPr/>
            <p:nvPr/>
          </p:nvPicPr>
          <p:blipFill>
            <a:blip r:embed="rId13"/>
            <a:stretch/>
          </p:blipFill>
          <p:spPr>
            <a:xfrm>
              <a:off x="701640" y="3121200"/>
              <a:ext cx="668520" cy="4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图片 10272" descr="小猴"/>
            <p:cNvPicPr/>
            <p:nvPr/>
          </p:nvPicPr>
          <p:blipFill>
            <a:blip r:embed="rId14"/>
            <a:stretch/>
          </p:blipFill>
          <p:spPr>
            <a:xfrm>
              <a:off x="1420920" y="4184640"/>
              <a:ext cx="74268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图片 10275" descr="未标题-17"/>
            <p:cNvPicPr/>
            <p:nvPr/>
          </p:nvPicPr>
          <p:blipFill>
            <a:blip r:embed="rId15"/>
            <a:srcRect l="34843" t="25127" r="37719" b="30379"/>
            <a:stretch/>
          </p:blipFill>
          <p:spPr>
            <a:xfrm>
              <a:off x="2981160" y="3886200"/>
              <a:ext cx="727200" cy="89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5" name="图片 10276" descr="屋顶图"/>
          <p:cNvPicPr/>
          <p:nvPr/>
        </p:nvPicPr>
        <p:blipFill>
          <a:blip r:embed="rId16"/>
          <a:stretch/>
        </p:blipFill>
        <p:spPr>
          <a:xfrm>
            <a:off x="6659640" y="2260440"/>
            <a:ext cx="72072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9:00Z</dcterms:created>
  <dc:creator/>
  <dc:description/>
  <dc:language>en-US</dc:language>
  <cp:lastModifiedBy>万润仪器贸易公司</cp:lastModifiedBy>
  <dcterms:modified xsi:type="dcterms:W3CDTF">2020-08-21T00:38:0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